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ded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ed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ad9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46080"/>
            <a:ext cx="1523880" cy="512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1219320"/>
            <a:ext cx="7467480" cy="75960"/>
          </a:xfrm>
          <a:prstGeom prst="rect">
            <a:avLst/>
          </a:prstGeom>
          <a:gradFill rotWithShape="0">
            <a:gsLst>
              <a:gs pos="0">
                <a:srgbClr val="ded6c6"/>
              </a:gs>
              <a:gs pos="100000">
                <a:srgbClr val="ad94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1120" y="2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D Graphics Processing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91120" y="76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CE 49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Times New Roman"/>
              </a:rPr>
              <a:t>James Doty, Kyle McGhee, Allan Patterson,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ffffff"/>
                </a:solidFill>
                <a:latin typeface="Times New Roman"/>
              </a:rPr>
              <a:t>Daniel Wilhel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909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l" pos="3992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3DGPU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l" pos="3992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Graphics Processing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l" pos="3992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4267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E 495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, 2:30-5:2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: Philip Vorsi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04/19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 Do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le McG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n Patt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Wil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923" t="11851" r="3846" b="7989"/>
          <a:stretch/>
        </p:blipFill>
        <p:spPr>
          <a:xfrm>
            <a:off x="76320" y="1968480"/>
            <a:ext cx="8076960" cy="4203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228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4520" y="1447920"/>
          <a:ext cx="89931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1447920"/>
                    <a:ext cx="89931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7759" t="17988" r="3450" b="52789"/>
          <a:stretch/>
        </p:blipFill>
        <p:spPr>
          <a:xfrm>
            <a:off x="76320" y="5275440"/>
            <a:ext cx="89154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54200" y="1546200"/>
            <a:ext cx="3922920" cy="3483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13.8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60020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(2.5, 2.5, 1.0); (200.0, 125.25, 11.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xFOV = 1.0, yFOV = 0.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(2, 3, 1); (17, 12,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6456" r="0" b="60338"/>
          <a:stretch/>
        </p:blipFill>
        <p:spPr>
          <a:xfrm>
            <a:off x="76320" y="4127400"/>
            <a:ext cx="8991360" cy="212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487440" y="3200400"/>
          <a:ext cx="352116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440" y="3200400"/>
                    <a:ext cx="3521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294080" y="3200400"/>
          <a:ext cx="3554640" cy="7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94080" y="3200400"/>
                    <a:ext cx="3554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27944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SYNTHESIZED, NEEDED DIVI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Raste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7489" r="0" b="47587"/>
          <a:stretch/>
        </p:blipFill>
        <p:spPr>
          <a:xfrm>
            <a:off x="0" y="3254400"/>
            <a:ext cx="9144000" cy="2917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8600" y="175248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(7, 5, 0)-&gt;(10, 15,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(7, 5, 0); (8, 8, 5); (9, 12, 11); (10, 15,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794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SYNTHESIZED, NEEDED DIVI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313080" cy="4884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819520" y="4325760"/>
            <a:ext cx="6172200" cy="2227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038480" y="2362320"/>
          <a:ext cx="36244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362320"/>
                    <a:ext cx="36244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429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676520"/>
          <a:ext cx="67057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67057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1241" t="9468" r="901" b="44774"/>
          <a:stretch/>
        </p:blipFill>
        <p:spPr>
          <a:xfrm>
            <a:off x="304920" y="3048120"/>
            <a:ext cx="8610480" cy="3160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0155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AM 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00730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17220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CD 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3539" t="25902" r="2656" b="19127"/>
          <a:stretch/>
        </p:blipFill>
        <p:spPr>
          <a:xfrm>
            <a:off x="76320" y="4618080"/>
            <a:ext cx="8915400" cy="1935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rcRect l="3961" t="20732" r="1919" b="42985"/>
          <a:stretch/>
        </p:blipFill>
        <p:spPr>
          <a:xfrm>
            <a:off x="152280" y="2971800"/>
            <a:ext cx="8839440" cy="1303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00586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9120" y="3184560"/>
            <a:ext cx="550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igh-Level Organ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ock Specif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aining Work/Conclu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800" y="152388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GPU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3D graphics processing unit designed for high-end cellular ph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CD Si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093920" cy="4454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127944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# 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210492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division module with 3D Projector and Line Ras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individua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imated 3D testbenches for play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timing and area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op-level GPU/CPU research befor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arget clock rates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62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l" pos="3992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l" pos="3992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86000"/>
            <a:ext cx="807696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rdware-accelerated rendering of points and 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rdware-accelerated depth-ordering of primitiv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utomatic perspective projection for realistic fe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ended for small LCD displays, 256x256, with 8-bit colo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perates synchronously with CP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22520"/>
            <a:ext cx="807696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8-bit w-buff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ge flipping architec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ss-by-value opcodes utilized for spe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wo separate SRAM modu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ariable frequency display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e algorithm optimized for hardw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16:16 fixed point numb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difiable field of vie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52480" y="1581120"/>
          <a:ext cx="5899320" cy="4667400"/>
        </p:xfrm>
        <a:graphic>
          <a:graphicData uri="http://schemas.openxmlformats.org/drawingml/2006/table">
            <a:tbl>
              <a:tblPr/>
              <a:tblGrid>
                <a:gridCol w="892440"/>
                <a:gridCol w="2495520"/>
                <a:gridCol w="2511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mat addr_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Current Matri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mat addr_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y Current Matrix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t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t Current Matrix to Identity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fov val_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X Field of Vie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fov val_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Y Field of Vie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3d addr_3D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3D point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3d addr_3DVEC addr_3D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3D lin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 val_CO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Color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r Buffer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e Flip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2d addr_2D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2D point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n2d addr_2DVEC addr_2D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2D lin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 Op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High-Leve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High-Leve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7800" y="1371600"/>
            <a:ext cx="50688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4991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d946b"/>
                </a:solidFill>
                <a:latin typeface="Times New Roman"/>
              </a:rPr>
              <a:t>High-Leve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3216" t="21762" r="1959" b="17321"/>
          <a:stretch/>
        </p:blipFill>
        <p:spPr>
          <a:xfrm>
            <a:off x="228600" y="3787920"/>
            <a:ext cx="8763120" cy="207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ft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YNTHESIZED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ea: 0.128 mm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9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1371600"/>
          <a:ext cx="662940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662940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0" y="7621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trix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D Proj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ster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en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77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10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2133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D 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 Co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10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1219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762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20:55:20Z</dcterms:created>
  <dc:creator>Denton</dc:creator>
  <dc:description/>
  <dc:language>en-US</dc:language>
  <cp:lastModifiedBy>Daniel Wilhelm</cp:lastModifiedBy>
  <cp:lastPrinted>2002-10-10T22:28:48Z</cp:lastPrinted>
  <dcterms:modified xsi:type="dcterms:W3CDTF">2005-04-19T19:01:52Z</dcterms:modified>
  <cp:revision>744</cp:revision>
  <dc:subject/>
  <dc:title>PowerPoint Presentation</dc:title>
</cp:coreProperties>
</file>